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91CE-A1FB-4B43-9922-11399BD48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1D13-691C-4A68-A444-9E8DB3064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09C-D99D-4CA9-B115-F6ABF289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F25-44E9-4B39-A225-69AF3AB0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EA3-9D1E-4917-9AFD-70669511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578-2AFE-44C0-87AB-19A97119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6CE-A5D8-4C5A-85E1-448C9796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21E-58F4-4E51-9C13-86F382B9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315-17F6-433A-831A-A656A422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AD6-73ED-48C2-8B20-BB534C1C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075-D794-4276-BE9B-A8BA9FA7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6A8-CB2E-4786-98D7-792BEBE7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86A-22BF-4B9F-93C3-90052170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723-38D9-4884-ABC0-4A4D8188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80F2-62F3-4591-9AF0-0855F58F7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rel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e llamo Mirela. Yo tengo catorce años. Yo soy dulce y amigable. Yo vivo en Queens. Yo tengo dos herma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as?                                                                 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.                                                                                Tasha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amiga!  ¿Cómo estas?                                                                           Natalie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y bien.                                                                             Ta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y tú?                                                                                                           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hac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4:44:00Z</dcterms:created>
  <dc:creator>FriscoISD</dc:creator>
  <dc:description/>
  <dc:language>en-US</dc:language>
  <cp:lastModifiedBy>NYCDOE</cp:lastModifiedBy>
  <dcterms:modified xsi:type="dcterms:W3CDTF">2012-12-05T14:56:18Z</dcterms:modified>
  <cp:revision>105</cp:revision>
  <dc:subject/>
  <dc:title>Profile</dc:title>
</cp:coreProperties>
</file>